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E26-DF9B-4054-AE3B-D26F31C4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C15-8B9B-4AAB-A53B-9623E45C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C10-84E7-4B35-963E-42475AB4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2EC-EFCE-4BB6-A1EC-03EF0A11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F17-DD0F-48ED-9F8C-E05568F7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E6DF-E3E0-4983-9906-5EE8AA6B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E98-8C41-48F4-9809-3D5CD8D5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28D-9E06-4765-B74F-EE465CB3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882-6DAF-4488-82EA-6A957342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5E2-F1F7-4FC3-98CF-651E9D8F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AD1-29EC-4C45-9AC6-AF406D95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AB1-F54B-4CA3-868E-6069FAD9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4A40-FCF3-49C7-B6D7-8CDB3BE56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s of The Old Man and the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Fisher Midg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ld Man and the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Man and the Sea is a epic story about the fight between an old man named Santiago and his fight with a large marl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3 days he catches the marlin, but fails to bring any of the meat in because of the sharks ate i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emingway%2520old%2520man%2520current"/>
          <p:cNvPicPr/>
          <p:nvPr/>
        </p:nvPicPr>
        <p:blipFill>
          <a:blip r:embed="rId1"/>
          <a:stretch/>
        </p:blipFill>
        <p:spPr>
          <a:xfrm>
            <a:off x="5791320" y="4162320"/>
            <a:ext cx="16952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Them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de is shown in the Old Man in the Sea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travels far to sea to catch the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still fishing as an old man and doesn’t give up in 85 days with no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eels sympathy for the fish when the sharks destroy it and his pride makes him think he shouldn’t have even caught the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tiago hasn’t had much success lately in the novel (84 days), but he remains hop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tches the big fish a finds himself successful and feels very accomplish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sad that his success is so short-lived as the sharks take the meat off of the fish, so he can not sell the fish at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o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tiago is a hero to Manolin because he has taught Manolin all he knows about fis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tiago has heroic strength to continue 3 days without stopping, and end up catching the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ingway, Ernest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Old Man and the S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New York: Charles Scribner's Sons, 1980. Pr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4:19:38Z</dcterms:created>
  <dc:creator>dcsuser</dc:creator>
  <dc:description/>
  <dc:language>en-US</dc:language>
  <cp:lastModifiedBy>FISHER</cp:lastModifiedBy>
  <dcterms:modified xsi:type="dcterms:W3CDTF">2012-03-07T03:35:57Z</dcterms:modified>
  <cp:revision>8</cp:revision>
  <dc:subject/>
  <dc:title>Slide 1</dc:title>
</cp:coreProperties>
</file>